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9568-3DB7-4470-94CE-06FE480FC1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B839-6963-4959-8582-73FA79A8DF1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F7B4-A2D0-4967-BD1D-1FC70DA1D4B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0E62B-5F70-4AD9-9211-A48356AD8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8BC1F-B847-4F93-8C48-67A2558F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40CB-1516-4CBC-9765-AC54E07E6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527CF-08F3-4DF8-BB6A-32FB3F72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267CF-D0D1-4B45-8592-4354A261D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43C85-6ECE-400E-8499-2CA0ED495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64FB6-CFE1-4B93-9BC9-8897DEE98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42E5F-1CE5-4E34-A718-FD8A4B9FF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A841-23B4-4F67-946C-FD3E474E2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18A7A-99C9-4217-9059-26FFCCCE8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A519-EC92-45C0-8958-A9E157A3C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8AEC-5748-409E-B296-5390E32A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A066-394C-47A5-AE5B-F722D2ACB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F39F-B088-4AEA-8A18-01D1D1187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9FA37-2EC9-42A2-BE0E-DF5CE199D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E6D58-624A-4D35-8AF8-51C73AC55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E9602-720B-4C34-A7C4-9DFE50992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4275B-97C0-4A92-AC03-C707F2959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CB02B-9364-484C-B084-DE7C93E47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3B058-B98E-4283-9860-00AB680EA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06507-B7ED-4333-901B-CB139404A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F64DF-1E3F-44A1-9409-FA4D19E89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4163F-6BC6-452C-9A5B-9735FA44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E70F6-1919-4773-BDD0-AACD6929A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62EE9-3711-4FE6-9042-0858A6808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2C830-B269-49D5-868B-BEE42F6D4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D205D-72B8-469B-A517-3B7C17BBC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383B4-FF44-4284-9B37-691A1FB5B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F538D0-3EBA-436D-A399-11BA07CD7F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AAC70-46C8-4F76-9C1E-B3D7AF6FE1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6ADD5-5147-4558-BAA4-704D886617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05543-BF97-4C51-8769-87048A4F7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64153-3E97-4892-A001-D9B72870A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ED16E-6BFF-45CA-9732-74AF096B8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B80A5-8D5B-4FBF-AB90-89D2A99EE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5BD73-F907-4FA3-A188-2591456BB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69094-1A52-4AFF-AAA5-042119CBB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66AF4-4100-4624-8760-46023C32C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AC284-65AB-426A-BBA2-385D5C320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4CCD8-56A1-4DF8-A763-29ECB2B0D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C8CCC-3B21-4949-AD64-B067565F2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6580B-90F2-4EAC-BD7C-96C4FA5B7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9EB377-8F27-40B1-AC7F-126BF41FFA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7D7696-04D2-406B-965E-78515C0E3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49BD-85BC-4638-9C94-EAB86196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614F4-337A-4735-B9C5-501DED387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9981F-354A-4E62-83E6-4C9FB3E84E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8ECEA-218A-4FA5-8141-98109BB38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C17C6-E8D7-40A5-8E3D-A5C6D366EE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183F4-C85B-4BBE-BFE3-2F8C6EE4C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342F1-89DC-4E08-BD23-313FE26E0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CA79B-56BF-4487-9E3A-0D3028576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92298-4395-4FC7-9719-8986FC4B0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F8DC8-DC10-4CF6-86BC-87526D206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B4C39-EC48-4473-AE46-827F11E548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C55C-3988-4D22-913B-A7B3010E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D5062D-1AE4-4030-B1C7-905A3B66C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F4FD-F771-49B6-8ADE-027CE6D2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CCDC-788D-4E3A-AD2C-F386CCE2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CD37-F46F-46D7-8FF8-0DCAD3A33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3785-9AA7-479A-81C4-265ACE167EE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350D-860B-4060-A97B-8741A9C4F11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C114-23C9-40F1-9EB5-5E843CF8E5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0A70-4209-4CC4-A14F-00986D55A4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8DB9-84D3-42A9-8405-ECC2688B588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6400" y="1255680"/>
            <a:ext cx="8455320" cy="243828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8"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0"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1"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2"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3"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4"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7"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1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1"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26"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7"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8"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9"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0"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1"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2"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34"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35"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36"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7"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2-08T15:44:21Z</dcterms:modified>
  <cp:revision>18</cp:revision>
  <dc:subject/>
  <dc:title>Marketing Channels and Wholesaling</dc:title>
</cp:coreProperties>
</file>